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4DE-2462-4A4F-8F31-2985CD55B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125-DF69-4627-A9D1-CEEA69FE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C9F6-72B3-4D29-B3FD-96E3998A3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5C3F-17EB-4A84-BBFC-B6D00A579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A823-09B5-491F-B560-F76A4D898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20EA-13E2-4100-A80A-84518076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6187-DDA2-49F6-9BC9-32E13941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48F6-47CF-4940-A599-EF0DB68D5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76D6-11A2-484D-B45B-16AE7AECD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E722B-42DF-401F-A30C-705ED8EB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2277-29E5-413A-853A-9AF90A66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79AF-DAA4-4410-B6E3-89668BB9F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CFA-4BA8-4AC4-9E22-2E347DA3A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4648C-04A9-4A06-A83D-3286DD7C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01863-3FF4-4EBF-9AF2-C28FE6B8F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0BFC-6D24-4DE0-9A8D-22494DF4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E129-442F-41B8-A555-DC87EA96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8C6B6-F83C-4842-A390-F69C85EAA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627-6321-431D-90D2-D7CB9639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6D57-828F-4AC8-8378-66CB66EB1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0EFA-FDA7-46D0-91E5-9F2DBCA3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93B7-7E39-431C-BC17-D7990F07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8A1D-13EC-410A-9332-C359C1E5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B438-CD0C-4BEE-8BF5-EF2346062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BED2-8192-43FE-8A92-947206EBA71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000F-FC8E-40B5-AE66-DA3A28667BE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a level forecasting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9810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realistic scientist handle on the timing and magnitude of sea level sea over this century remains a moving target. Human-induced climate change can lead to sea level rise by heating of the oce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638680" y="4229280"/>
            <a:ext cx="3505320" cy="26287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90720" y="3048120"/>
            <a:ext cx="723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rfaces, causing the water to expand (thermal expansion). Or it may occur through melting of land-based glaciers and ice caps or the melting and disintegration of polar ice sh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62920" y="380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rien V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7T18:27:23Z</dcterms:created>
  <dc:creator>PA Department of Education</dc:creator>
  <dc:description/>
  <dc:language>en-US</dc:language>
  <cp:lastModifiedBy>PA Department of Education</cp:lastModifiedBy>
  <dcterms:modified xsi:type="dcterms:W3CDTF">2009-05-29T18:37:56Z</dcterms:modified>
  <cp:revision>5</cp:revision>
  <dc:subject/>
  <dc:title>Sea level forecasting</dc:title>
</cp:coreProperties>
</file>